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129A-0F8B-4358-85FF-C101A92E3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18C3-2748-42CB-AB5E-0C69A0C1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387C-A72F-4870-873D-5F7687139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6BCF-093D-4D8B-89E1-1318323A6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1D6A-2B8F-4D7C-8C5A-166FEF351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E8B61-2D71-4379-BA08-410832F4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B1AE0-5D48-4832-9FD5-7ACA1D26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CFBDD-E716-4CC3-909D-238A6029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159F-C620-4788-AC54-AC4B33BD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7719-46C4-4227-A58B-B607ADD5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C380-1CA8-4BAE-BC9E-7ADE6097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8E25-A8F3-4BD4-BABF-26CA6381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891D-9300-4A51-AC3D-CAD50FCC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B7B3-912D-4D22-A584-4FF48AC0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F53F-09EC-4B9A-8A05-8BA6BD18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6366-756B-432E-97CC-D5A452DA2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8231-AD2C-4DAF-8B4C-A2F511C4E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90BA-F23A-49DB-92DA-6103EE1F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468C-C79F-4D75-B430-161DC6BE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A473-98F1-497D-BF83-A8865F90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E9F5-BF68-4B7A-A165-69EE4644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5BFB-EA80-4A27-8853-CBE19F4B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1128-2E33-43EC-9A9B-CCF6F211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DC8C-D745-4224-B229-D878DC55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CB3D-3220-4840-9988-979689F0DF0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373C-6EB8-4112-ADA2-65240F44397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72738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ГУ «Центр спортивной подготовки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борных команд России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СЕРОССИЙСКАЯ ФЕДЕРАЦИЯ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ЕГКОЙ АТЛЕТИКИ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0560" y="3049560"/>
            <a:ext cx="70578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Кубок Росси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по многоборья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4-16 мая 2008г.                                                               г. Со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. «Центральны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330066"/>
                </a:solidFill>
                <a:latin typeface="Times New Roman"/>
              </a:rPr>
              <a:t>Кубок России по многоборьям</a:t>
            </a:r>
            <a:br>
              <a:rPr sz="2100"/>
            </a:br>
            <a:r>
              <a:rPr b="0" i="1" lang="ru-RU" sz="2100" spc="-1" strike="noStrike">
                <a:solidFill>
                  <a:srgbClr val="330066"/>
                </a:solidFill>
                <a:latin typeface="Times New Roman"/>
              </a:rPr>
              <a:t>СОСТАВ ГЛАВНОЙ СУДЕЙСКОЙ КОЛЛЕГИИ</a:t>
            </a:r>
            <a:endParaRPr b="1" lang="en-US" sz="21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68360" y="1700280"/>
          <a:ext cx="7991280" cy="4182840"/>
        </p:xfrm>
        <a:graphic>
          <a:graphicData uri="http://schemas.openxmlformats.org/drawingml/2006/table">
            <a:tbl>
              <a:tblPr/>
              <a:tblGrid>
                <a:gridCol w="4824360"/>
                <a:gridCol w="1655640"/>
                <a:gridCol w="1511280"/>
              </a:tblGrid>
              <a:tr h="38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онный делегат ВФ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 Лоторе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удь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Хавж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екретар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Пешк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 главного судьи по кадрам и безопас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. Малыг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Фроло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л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бег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Айнетдин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прыжкам и метания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Савенк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-Петерур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екретар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 Мора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едатель комиссии по допуску участн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 Лоторе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ьютерное обеспе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. Алае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. Тужиков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41:56Z</dcterms:created>
  <dc:creator>Wl</dc:creator>
  <dc:description/>
  <dc:language>en-US</dc:language>
  <cp:lastModifiedBy>игорь</cp:lastModifiedBy>
  <dcterms:modified xsi:type="dcterms:W3CDTF">2008-05-15T09:48:45Z</dcterms:modified>
  <cp:revision>8</cp:revision>
  <dc:subject/>
  <dc:title>ДЕПАРТАМЕНТ ПО ФИЗИЧЕСКОЙ КУЛЬТУРЕ И СПОРТУ  КРАСНОДАРСКОГО КРАЯ ФЕДЕРАЦИЯ ЛЕГКОЙ АТЛЕТИКИ КРАСНОДАРСКОГО КРАЯ КУБАНСКИЙ ГОСУДАРСТВЕННЫЙ УНИВЕРСИТЕТ ФИЗИЧЕСКОЙ КУЛЬТУРЫ, СПОРТА И ТУРИЗМА КАФЕДРА ТЕОРИИ И МЕТОДИКИ ЛЕГКОЙ АТЛЕТИКИ   СПОРТИВНЫЙ КЛУБ  КГУФК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